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591-0F5D-4774-9EE8-C66ADB38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FFD-D5B9-41EF-B0A0-49D4F049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F49-AEBF-4042-800C-42D24464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514-380A-4C2C-8F0B-0D639CD1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66A-B178-4271-A737-E097442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CE2-028B-4CE5-91E4-BD432A9C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C20-1BE9-4A48-A6D5-C69DED67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E5E-7F35-40D0-9E2F-CB61A1DC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FC6-80B6-4233-8A2E-89AC7C17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FA1-5727-441A-91BB-51C604E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526-CCEC-454B-8396-CEFAE11A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4D6-0225-4DF8-BA59-F72730DA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39B0-DB8B-475F-922C-4AB223D7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mbre: ________________    Clase: ______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cha: __________________    Tarea #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ou were a witness to a back robbery and 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estifying in court. Complete the sentences wi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ETERIT form other verb in parenth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Yo _________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entr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en el banco a las once de la mañ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Dos hombres __________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entr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detrás de mi y _________ 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cerr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la puer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Una señora y yo _________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comenz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a gri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director del banco __________ 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escuch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los gritos y __________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llam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a la polic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La policía __________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lleg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pro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Los ladrones no ___________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rob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director del banco ____________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(d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las gracias a la polic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1147680"/>
            <a:ext cx="167652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3:05:18Z</dcterms:created>
  <dc:creator>Helen Zumaeta</dc:creator>
  <dc:description/>
  <dc:language>en-US</dc:language>
  <cp:lastModifiedBy>Helen Zumaeta</cp:lastModifiedBy>
  <dcterms:modified xsi:type="dcterms:W3CDTF">2012-09-14T13:05:41Z</dcterms:modified>
  <cp:revision>1</cp:revision>
  <dc:subject/>
  <dc:title>Nombre: ________________    Clase: ______ Fecha: __________________    Tarea # 1</dc:title>
</cp:coreProperties>
</file>